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DF0-D276-47CE-929C-EC5FB282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5E1-0712-493E-8B72-24BCA167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EAC-8F24-4900-9F30-CAE9AF8B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9B1-AEBC-4975-B307-D35D5328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1A2-1533-40F1-B2CB-3A65F0DA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91F-764C-43CD-9E18-775C9E24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B43-998C-43B6-A1F4-39514163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C5A-5209-4362-916E-CDC51936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075-3B4A-4727-9EF7-CC45F870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379-BA17-4080-ACBA-37E92AF1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AFC-7B20-41A2-B6E7-4739EC1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C25-2765-42F4-A56C-21B4510D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C03D-23C4-460C-A931-4C925BD62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7240" y="3838680"/>
            <a:ext cx="736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ب لنا عيوناً ترنو إ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واجعل حياتنا مُلكاً لد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نعرف طعم الهناء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لا استجب منّا الدعاء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2560" y="3838680"/>
            <a:ext cx="75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مح الضغينة من صدور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زرع كلامك في ضمير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نحصد حب العط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ألا استجب منا الدعا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41160" y="3838680"/>
            <a:ext cx="684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حن جياع أنت خبزنا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نحن عطاش أنت ماؤ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منك يطيب الغذ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لا استج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 الدعا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1:19Z</dcterms:modified>
  <cp:revision>1</cp:revision>
  <dc:subject/>
  <dc:title>PowerPoint Presentation</dc:title>
</cp:coreProperties>
</file>